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7FC-766F-4B03-B0E8-4DBEBF85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777-B351-42AF-A182-A9EB6BA2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C9F-C6CB-45FF-ACBF-A01F6FA1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C06-7363-485F-84F9-5193F23A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EAB-2EE1-460A-A61B-7736AA60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3E9-E4B7-45EC-A1E0-BFDB3F69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7851-3A3A-46A6-B9DB-FC49ED9A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0DA-BE09-49BE-A85B-B6AC1A80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E07-A4A5-4213-A0B3-4B4C4AB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EDD-ED55-410B-BBF8-C4932F25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B7B-A676-43CA-AC75-70FB88EA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721-86A5-46AA-B8CC-6109E45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7463-580F-4376-98DA-DE23EBA4A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124080" cy="73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وذا عودُ الصليب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عليه عُلِّقَ خلاصُ العالم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ccecff"/>
                </a:solidFill>
                <a:latin typeface="Times New Roman"/>
              </a:rPr>
              <a:t>هلموا نسجدُ له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7:36:23Z</dcterms:created>
  <dc:creator>SUZANNE.MD</dc:creator>
  <dc:description/>
  <dc:language>en-US</dc:language>
  <cp:lastModifiedBy>HANI SAFI</cp:lastModifiedBy>
  <dcterms:modified xsi:type="dcterms:W3CDTF">2003-04-17T11:12:14Z</dcterms:modified>
  <cp:revision>1</cp:revision>
  <dc:subject/>
  <dc:title>PowerPoint Presentation</dc:title>
</cp:coreProperties>
</file>